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media/image16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C6EC-D734-4498-B1D9-8F9A5843C1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28F6-2EDE-4900-908C-EBCCAAE61F4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1A55-BC3C-4F64-8896-4C76491163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54EB-6DC1-49FA-BE59-9BF446C4EDA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B7EA-F610-47A9-9BC2-66CDC49CB2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1364-4A02-4F98-BD76-8E7D85AB379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0C30-5985-4EB5-BB5B-DAEA91F8326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rashing: Gründe für das Fehlschlagen werden verge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Konflikte: erst hier unten wird erkannt, daß bei A=B die ersten beiden Constraints nicht erfüllt werden kön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Thrashing: Das gilt natürlich für jede Belegung von C.  Es ist also völlig unnötig C mit 2 zu be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die gleichen Constraint-Checks werden wieder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868D-0B23-4353-AEE6-A30620ACEB7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5A30-E517-405E-881A-ED0E39B97F9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CA32-0B10-438E-A418-F8BABCFA889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7BCE-313B-4CCB-8EE4-AA0EC58900E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509F-9811-400B-93DB-B00DFE4836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ABFB-2804-4EBB-9DA9-A1573C1CB5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8584-4814-492E-847A-A7307269A1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77C8-518F-43A5-BAF2-233A86218E5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451F-6839-4B84-BA76-4CCC1DDCEE2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EA50-317F-486D-BC61-CD10B46B13D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426A-3431-4F1D-97B3-2C1377A291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4477-9D3D-4C5A-8FBE-3DCBA35EC7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23B6-8460-42DF-8644-DDA979B0FD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4A1D-B000-42C9-933D-DBFF9EED5E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5479-96E1-425C-805A-4708C0B4F8A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63A5-B89E-4E06-B190-B4CE5BA7EA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408E-ABEF-429B-83A3-0478B55DC0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673F-B632-474E-85F9-0CFD36BE05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351A-B626-4B70-AAE6-0DAAD0E41E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sp: partial constraint satisfaction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F3CA-1C92-46F9-9756-DB9CFA62CB6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7AC5-7DA5-4E37-BDD6-33755D0E1F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E74B-9A62-440C-B770-1D8822BB115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5408-212F-463B-95A6-79AA498FCC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9AC2-8ABA-41DC-BD5F-27536530F6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DD4B-BF68-47EF-9610-FD35EBD3ABF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0D07-5B5A-4C37-AE1D-AACB45EC80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3EC5-95F1-40E7-A973-1542E891BDD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85A-76EE-442C-8776-A8CFF436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C88-E607-4BA3-9399-97FFB20A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574-0014-4E57-8AB6-BCEE65BB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853-8BDD-4C12-868F-4C407E25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CD87-ED1E-4371-811B-61D921BE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49D3-376F-4D89-ACFF-6828D8C2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9B5D-037B-4304-A8B4-F0D4F175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6862-B410-447A-B82D-F8434E4A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34E6-6E09-4671-BE58-35B6022F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0246-BB1E-4422-A4FD-B00F4FEA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95F4-D895-4624-A9E7-C77DCBD8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16C-010A-495C-8D80-00AA1CA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6964-1265-4BB2-9467-CB9BF3D8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6D12-62FB-4563-9A7E-DD914FBD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E740-DF35-4501-B1E0-A75B5748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C568-8259-481F-8F15-0661CAE9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15AB-43AF-4FAA-9985-90B58B24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59A-C328-41F4-8293-8CEB98F9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C97-380D-47CB-BA08-BD606AF1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EB6-9E72-45BC-86FE-80D5A405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403-D840-4689-B7B7-1206B3F0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037-E8A9-4B8F-8FDE-C622A30B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112-A61D-4011-9FF3-80B46286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402-4569-4EE9-ADE4-D8B97B43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3703-5E6A-459F-9EC6-434256D89B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04E0-C6CE-40EB-9485-2D1EE39B20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kti.mff.cuni.cz/~bartak/constraints" TargetMode="External"/><Relationship Id="rId2" Type="http://schemas.openxmlformats.org/officeDocument/2006/relationships/hyperlink" Target="http://www.cylo.org/games_6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Constraintprogramm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minesweeper.png"/>
          <p:cNvPicPr/>
          <p:nvPr/>
        </p:nvPicPr>
        <p:blipFill>
          <a:blip r:embed="rId1"/>
          <a:stretch/>
        </p:blipFill>
        <p:spPr>
          <a:xfrm>
            <a:off x="585720" y="1494000"/>
            <a:ext cx="5602320" cy="3243240"/>
          </a:xfrm>
          <a:prstGeom prst="rect">
            <a:avLst/>
          </a:prstGeom>
          <a:ln w="0">
            <a:noFill/>
          </a:ln>
        </p:spPr>
      </p:pic>
      <p:pic>
        <p:nvPicPr>
          <p:cNvPr id="99" name="Bild 6" descr="minesweeper(misel).png"/>
          <p:cNvPicPr/>
          <p:nvPr/>
        </p:nvPicPr>
        <p:blipFill>
          <a:blip r:embed="rId2"/>
          <a:stretch/>
        </p:blipFill>
        <p:spPr>
          <a:xfrm>
            <a:off x="4267080" y="152280"/>
            <a:ext cx="3202200" cy="3581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371600"/>
            <a:ext cx="8640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(Problemformulier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belegende Variablen bilden ein 9x9-Array: n(i,j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Variable kann Wert zwischen 1 und 9 annehm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(i,j)::{1,2,3,4,5,6,7,8,9}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Spalte verschied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i,j) ≠ n(i,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Zeile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j,i) ≠ n(k,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m Teilquadrat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div 3 = i div 3, j div 3 = k div 3, (h ≠ i oder j ≠ k)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h,j) ≠ n(i,k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ild 5" descr="sudoku.jpg"/>
          <p:cNvPicPr/>
          <p:nvPr/>
        </p:nvPicPr>
        <p:blipFill>
          <a:blip r:embed="rId1"/>
          <a:stretch/>
        </p:blipFill>
        <p:spPr>
          <a:xfrm>
            <a:off x="6324480" y="3200400"/>
            <a:ext cx="238932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urzer Überblick über C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blem der realen Welt wird mittels           Constraintprogrammierung beschr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einer Instanz (labe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bekannten Techniken der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pagierung (domain filt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konsistenzen werden im Voraus entfe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stematisch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uchung des gesamten Lösungsra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ständig und korr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fizienzprobleme (sehr aufwend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egende Techni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(G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tracking (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591000" y="5151600"/>
            <a:ext cx="2774880" cy="641160"/>
          </a:xfrm>
          <a:prstGeom prst="wedgeRoundRectCallout">
            <a:avLst>
              <a:gd name="adj1" fmla="val 53486"/>
              <a:gd name="adj2" fmla="val 87375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zelne Bele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72768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70088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72896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757224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785340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663084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9120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71928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747540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775656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653256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681372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709596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737712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765828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672768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70088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2"/>
          <p:cNvSpPr/>
          <p:nvPr/>
        </p:nvSpPr>
        <p:spPr>
          <a:xfrm>
            <a:off x="72896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757224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785340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663084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69120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71928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747540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775656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653256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681372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709596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737712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4"/>
          <p:cNvSpPr/>
          <p:nvPr/>
        </p:nvSpPr>
        <p:spPr>
          <a:xfrm>
            <a:off x="765828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672768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70088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72896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757224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9"/>
          <p:cNvSpPr/>
          <p:nvPr/>
        </p:nvSpPr>
        <p:spPr>
          <a:xfrm>
            <a:off x="785340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663084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69120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71928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747540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775656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653256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6"/>
          <p:cNvSpPr/>
          <p:nvPr/>
        </p:nvSpPr>
        <p:spPr>
          <a:xfrm>
            <a:off x="681372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7"/>
          <p:cNvSpPr/>
          <p:nvPr/>
        </p:nvSpPr>
        <p:spPr>
          <a:xfrm>
            <a:off x="709596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8"/>
          <p:cNvSpPr/>
          <p:nvPr/>
        </p:nvSpPr>
        <p:spPr>
          <a:xfrm>
            <a:off x="737712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9"/>
          <p:cNvSpPr/>
          <p:nvPr/>
        </p:nvSpPr>
        <p:spPr>
          <a:xfrm>
            <a:off x="765828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0"/>
          <p:cNvSpPr/>
          <p:nvPr/>
        </p:nvSpPr>
        <p:spPr>
          <a:xfrm>
            <a:off x="672768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51"/>
          <p:cNvSpPr/>
          <p:nvPr/>
        </p:nvSpPr>
        <p:spPr>
          <a:xfrm>
            <a:off x="70088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2"/>
          <p:cNvSpPr/>
          <p:nvPr/>
        </p:nvSpPr>
        <p:spPr>
          <a:xfrm>
            <a:off x="72896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3"/>
          <p:cNvSpPr/>
          <p:nvPr/>
        </p:nvSpPr>
        <p:spPr>
          <a:xfrm>
            <a:off x="757224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4"/>
          <p:cNvSpPr/>
          <p:nvPr/>
        </p:nvSpPr>
        <p:spPr>
          <a:xfrm>
            <a:off x="785340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5"/>
          <p:cNvSpPr/>
          <p:nvPr/>
        </p:nvSpPr>
        <p:spPr>
          <a:xfrm>
            <a:off x="663084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6"/>
          <p:cNvSpPr/>
          <p:nvPr/>
        </p:nvSpPr>
        <p:spPr>
          <a:xfrm>
            <a:off x="69120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7"/>
          <p:cNvSpPr/>
          <p:nvPr/>
        </p:nvSpPr>
        <p:spPr>
          <a:xfrm>
            <a:off x="71928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8"/>
          <p:cNvSpPr/>
          <p:nvPr/>
        </p:nvSpPr>
        <p:spPr>
          <a:xfrm>
            <a:off x="747540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9"/>
          <p:cNvSpPr/>
          <p:nvPr/>
        </p:nvSpPr>
        <p:spPr>
          <a:xfrm>
            <a:off x="775656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0"/>
          <p:cNvSpPr/>
          <p:nvPr/>
        </p:nvSpPr>
        <p:spPr>
          <a:xfrm>
            <a:off x="653256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1"/>
          <p:cNvSpPr/>
          <p:nvPr/>
        </p:nvSpPr>
        <p:spPr>
          <a:xfrm>
            <a:off x="681372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2"/>
          <p:cNvSpPr/>
          <p:nvPr/>
        </p:nvSpPr>
        <p:spPr>
          <a:xfrm>
            <a:off x="709596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3"/>
          <p:cNvSpPr/>
          <p:nvPr/>
        </p:nvSpPr>
        <p:spPr>
          <a:xfrm>
            <a:off x="737712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"/>
          <p:cNvSpPr/>
          <p:nvPr/>
        </p:nvSpPr>
        <p:spPr>
          <a:xfrm>
            <a:off x="765828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5"/>
          <p:cNvSpPr/>
          <p:nvPr/>
        </p:nvSpPr>
        <p:spPr>
          <a:xfrm>
            <a:off x="6489720" y="3448080"/>
            <a:ext cx="2427120" cy="641160"/>
          </a:xfrm>
          <a:prstGeom prst="wedgeRoundRectCallout">
            <a:avLst>
              <a:gd name="adj1" fmla="val 13407"/>
              <a:gd name="adj2" fmla="val 14628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 Unterrä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6"/>
          <p:cNvSpPr/>
          <p:nvPr/>
        </p:nvSpPr>
        <p:spPr>
          <a:xfrm>
            <a:off x="8112240" y="6362640"/>
            <a:ext cx="287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7"/>
          <p:cNvSpPr/>
          <p:nvPr/>
        </p:nvSpPr>
        <p:spPr>
          <a:xfrm flipV="1">
            <a:off x="8399520" y="6025680"/>
            <a:ext cx="0" cy="336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8"/>
          <p:cNvSpPr/>
          <p:nvPr/>
        </p:nvSpPr>
        <p:spPr>
          <a:xfrm flipV="1">
            <a:off x="8405640" y="6134040"/>
            <a:ext cx="19872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9"/>
          <p:cNvSpPr/>
          <p:nvPr/>
        </p:nvSpPr>
        <p:spPr>
          <a:xfrm>
            <a:off x="8066160" y="63500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0"/>
          <p:cNvSpPr/>
          <p:nvPr/>
        </p:nvSpPr>
        <p:spPr>
          <a:xfrm>
            <a:off x="8353440" y="5819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1"/>
          <p:cNvSpPr/>
          <p:nvPr/>
        </p:nvSpPr>
        <p:spPr>
          <a:xfrm>
            <a:off x="8493120" y="620712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schöpfend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1052640"/>
            <a:ext cx="81788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eriere und Teste (G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 systematisch einen Lösungskandi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, ob alle Constraints erfüll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CH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exhaustive_search"/>
          <p:cNvPicPr/>
          <p:nvPr/>
        </p:nvPicPr>
        <p:blipFill>
          <a:blip r:embed="rId1"/>
          <a:stretch/>
        </p:blipFill>
        <p:spPr>
          <a:xfrm>
            <a:off x="1763640" y="3933720"/>
            <a:ext cx="7042320" cy="136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88640" y="4940280"/>
            <a:ext cx="915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r Generator ist „bli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eneriere Lösungskandidaten intelli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 (Inkonsistenzen) werden zu spät erk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este Constraints bei Instanziierung der beteiligten Variab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acktracking (B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492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 eine Teillösung inkrementell zu einer vollständigen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se einer Variablen einen Wert 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 auf 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hole, bis alle Variablen beleg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efensuche (komplexe Rücksetz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nötige Wiederholungen (Redunda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flikte werden spät erk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6829560" y="2247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464160" y="24256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494400" y="40291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6404040" y="322740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65920" y="2698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865920" y="3503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865920" y="4309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8385120" y="5130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325000" y="348624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213680" y="512136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5940360" y="5950080"/>
            <a:ext cx="3017880" cy="368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= D, B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, A+C &lt;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6829560" y="304488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6829560" y="384192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6919920" y="4635360"/>
            <a:ext cx="257040" cy="70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8358120" y="384336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1"/>
          <p:cNvSpPr/>
          <p:nvPr/>
        </p:nvSpPr>
        <p:spPr>
          <a:xfrm>
            <a:off x="6921360" y="3835440"/>
            <a:ext cx="623880" cy="727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865920" y="5132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7564320" y="430200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6829560" y="464040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83487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8448840" y="53578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6494400" y="483228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896240" y="51166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9"/>
          <p:cNvSpPr/>
          <p:nvPr/>
        </p:nvSpPr>
        <p:spPr>
          <a:xfrm>
            <a:off x="7620120" y="4640400"/>
            <a:ext cx="231480" cy="688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7566120" y="513396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1"/>
          <p:cNvSpPr/>
          <p:nvPr/>
        </p:nvSpPr>
        <p:spPr>
          <a:xfrm>
            <a:off x="6927840" y="3051000"/>
            <a:ext cx="1387440" cy="689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8389800" y="4338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75531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4"/>
          <p:cNvSpPr/>
          <p:nvPr/>
        </p:nvSpPr>
        <p:spPr>
          <a:xfrm flipV="1">
            <a:off x="2565360" y="4838760"/>
            <a:ext cx="482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5"/>
          <p:cNvSpPr/>
          <p:nvPr/>
        </p:nvSpPr>
        <p:spPr>
          <a:xfrm flipV="1">
            <a:off x="5364000" y="5444640"/>
            <a:ext cx="182268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Nach rechts gekrümmter Pfeil 36"/>
          <p:cNvSpPr/>
          <p:nvPr/>
        </p:nvSpPr>
        <p:spPr>
          <a:xfrm flipV="1">
            <a:off x="380880" y="2666160"/>
            <a:ext cx="457200" cy="1181160"/>
          </a:xfrm>
          <a:custGeom>
            <a:avLst/>
            <a:gdLst>
              <a:gd name="textAreaLeft" fmla="*/ 61200 w 457200"/>
              <a:gd name="textAreaRight" fmla="*/ 396000 w 457200"/>
              <a:gd name="textAreaTop" fmla="*/ 221040 h 1181160"/>
              <a:gd name="textAreaBottom" fmla="*/ 777240 h 118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83" stAng="-5400000" swAng="-5400000"/>
                <a:lnTo>
                  <a:pt x="0" y="10173"/>
                </a:lnTo>
                <a:arcTo wR="21600" hR="8083" stAng="10800000" swAng="-3323610"/>
                <a:lnTo>
                  <a:pt x="16200" y="21343"/>
                </a:lnTo>
                <a:lnTo>
                  <a:pt x="21600" y="17210"/>
                </a:lnTo>
                <a:lnTo>
                  <a:pt x="16200" y="12563"/>
                </a:lnTo>
                <a:lnTo>
                  <a:pt x="16200" y="15908"/>
                </a:lnTo>
                <a:arcTo wR="21600" hR="8083" stAng="7476390" swAng="3156018"/>
                <a:lnTo>
                  <a:pt x="181" y="9128"/>
                </a:lnTo>
                <a:arcTo wR="21600" hR="8083" stAng="-10632408" swAng="5232408"/>
                <a:close/>
              </a:path>
              <a:path fill="darkenLess" w="21600" h="21600">
                <a:moveTo>
                  <a:pt x="21600" y="0"/>
                </a:moveTo>
                <a:arcTo wR="21600" hR="8083" stAng="-5400000" swAng="-5400000"/>
                <a:lnTo>
                  <a:pt x="0" y="8083"/>
                </a:lnTo>
                <a:arcTo wR="21600" hR="8083" stAng="10800000" swAng="-167592"/>
                <a:lnTo>
                  <a:pt x="181" y="9128"/>
                </a:lnTo>
                <a:arcTo wR="21600" hR="8083" stAng="-10632408" swAng="5232408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T &amp; BT -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 &amp; Tes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98480" y="3357720"/>
          <a:ext cx="3273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3357720"/>
                    <a:ext cx="3273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351400" y="3317760"/>
          <a:ext cx="3274920" cy="177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1400" y="3317760"/>
                    <a:ext cx="32749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8472600" y="5411880"/>
            <a:ext cx="3553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7683480" y="4287960"/>
            <a:ext cx="712800" cy="639720"/>
          </a:xfrm>
          <a:prstGeom prst="ellipse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onsistenztechnik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371240"/>
            <a:ext cx="81676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fernen inkonsistenter Werte aus den Domänen de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ierung eines CSPs als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binäre und unäre Constrain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-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Constraints si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ein Probl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 =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 =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konsistenz (NC) (node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konsistenz (AC) (arc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fadkonsistenz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starke) k-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485120" y="4648320"/>
            <a:ext cx="576360" cy="459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792840" y="6259680"/>
            <a:ext cx="57636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418600" y="5756400"/>
            <a:ext cx="5760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 flipH="1">
            <a:off x="7076880" y="5108400"/>
            <a:ext cx="393480" cy="1149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 flipH="1">
            <a:off x="7365960" y="6224760"/>
            <a:ext cx="104616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8062920" y="5124600"/>
            <a:ext cx="650880" cy="608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8290080" y="407340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g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407280" y="517860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8344080" y="5084640"/>
            <a:ext cx="7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lt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7635960" y="6353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antenkonsistenz A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4920" y="1371600"/>
            <a:ext cx="82407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= Kante im Constraint-Gra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(i,j) ist kantenkonsistent gdw. es für jeden Wert in     einen kompatiblen Wert in     gibt. (gerichte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ist kantenkonsistent gdw. es für alle Kanten kantenkonsistent ist (in beiden Richtung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98680" y="27972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475240" y="2824200"/>
                <a:ext cx="3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0" name="Picture 8" descr="enforcing_consistency3"/>
          <p:cNvPicPr/>
          <p:nvPr/>
        </p:nvPicPr>
        <p:blipFill>
          <a:blip r:embed="rId1"/>
          <a:stretch/>
        </p:blipFill>
        <p:spPr>
          <a:xfrm>
            <a:off x="6372360" y="4149720"/>
            <a:ext cx="1874880" cy="479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enforcing_consistency2"/>
          <p:cNvPicPr/>
          <p:nvPr/>
        </p:nvPicPr>
        <p:blipFill>
          <a:blip r:embed="rId2"/>
          <a:stretch/>
        </p:blipFill>
        <p:spPr>
          <a:xfrm>
            <a:off x="3708360" y="4149720"/>
            <a:ext cx="190836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enforcing_consistency1"/>
          <p:cNvPicPr/>
          <p:nvPr/>
        </p:nvPicPr>
        <p:blipFill>
          <a:blip r:embed="rId3"/>
          <a:stretch/>
        </p:blipFill>
        <p:spPr>
          <a:xfrm>
            <a:off x="971640" y="4149720"/>
            <a:ext cx="1908000" cy="50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1"/>
          <p:cNvSpPr/>
          <p:nvPr/>
        </p:nvSpPr>
        <p:spPr>
          <a:xfrm>
            <a:off x="90000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68360" y="5243400"/>
            <a:ext cx="8251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reichen der Kantenkonsisten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chränkungen solange wiederholen bis sich k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mänen mehr än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34040" y="4702320"/>
            <a:ext cx="809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icht kantenkonsistent          (A,B) konsistent        (A,B) und (B,A) k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C - Beispiel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152880" y="28576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703520" y="40766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86360" y="49672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"/>
          <p:cNvSpPr/>
          <p:nvPr/>
        </p:nvSpPr>
        <p:spPr>
          <a:xfrm flipH="1">
            <a:off x="1941480" y="3201840"/>
            <a:ext cx="1287360" cy="903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 flipH="1">
            <a:off x="2773080" y="328464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3381480" y="3219480"/>
            <a:ext cx="1550880" cy="1793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4154400" y="32846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2843280" y="4437000"/>
            <a:ext cx="1265040" cy="620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2925720" y="28083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1504800" y="401148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3782880" y="488484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47120" y="2813040"/>
            <a:ext cx="7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286680" y="3917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8021520" y="480852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8"/>
          <p:cNvSpPr/>
          <p:nvPr/>
        </p:nvSpPr>
        <p:spPr>
          <a:xfrm flipH="1">
            <a:off x="6722640" y="314172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8104320" y="3141720"/>
            <a:ext cx="1206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6732720" y="4221000"/>
            <a:ext cx="1325520" cy="69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1"/>
          <p:cNvSpPr/>
          <p:nvPr/>
        </p:nvSpPr>
        <p:spPr>
          <a:xfrm>
            <a:off x="7870680" y="4694400"/>
            <a:ext cx="86220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2"/>
          <p:cNvSpPr/>
          <p:nvPr/>
        </p:nvSpPr>
        <p:spPr>
          <a:xfrm>
            <a:off x="6094440" y="3844800"/>
            <a:ext cx="86184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7512120" y="2717640"/>
            <a:ext cx="86040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4971960" y="3481560"/>
            <a:ext cx="970200" cy="788760"/>
          </a:xfrm>
          <a:prstGeom prst="pi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628120" y="5132520"/>
            <a:ext cx="353880" cy="11667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27"/>
          <p:cNvSpPr/>
          <p:nvPr/>
        </p:nvSpPr>
        <p:spPr>
          <a:xfrm>
            <a:off x="4430880" y="2616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616040" y="45259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143680" y="53053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8155080" y="24033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027840" y="430200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7677000" y="508464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24000" y="5805360"/>
            <a:ext cx="882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C ist die am meisten verbreitete Konsistenztech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iele Algorithmen mit unterschiedlichen Leistungsmerkm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st AC ausreichend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ere Domä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konsistenz gefunden, keine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dinalität aller Domänen ist 1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 gefu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172200" y="33004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721400" y="45194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105680" y="54100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4960800" y="3693960"/>
            <a:ext cx="2106720" cy="8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8"/>
          <p:cNvSpPr/>
          <p:nvPr/>
        </p:nvSpPr>
        <p:spPr>
          <a:xfrm flipH="1">
            <a:off x="5792760" y="3693960"/>
            <a:ext cx="501840" cy="887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6400800" y="3662280"/>
            <a:ext cx="1666800" cy="1755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7172280" y="37274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5867280" y="4869000"/>
            <a:ext cx="126072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5945040" y="32511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4524480" y="4454640"/>
            <a:ext cx="162072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802560" y="5327640"/>
            <a:ext cx="162216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4979880" y="4879800"/>
            <a:ext cx="2955960" cy="576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17760" y="3797280"/>
            <a:ext cx="797040" cy="185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8"/>
          <p:cNvSpPr/>
          <p:nvPr/>
        </p:nvSpPr>
        <p:spPr>
          <a:xfrm>
            <a:off x="7189920" y="29113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4373640" y="4821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8310600" y="50925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rher: Organisatoris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te 2 Vorlesungen – nächste Woche k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Session: 325, SR 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ausur: letzter Vorlesungstermin (17. Ju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ein „Studenten-Wiki“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wiki.semantic-web-grundlag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eht Interesse an einer Blockveranstaltung „Ontologien und Semantic Web“ nächstes Semester: 22. – 26. Sept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fadkonsistenz (P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r Konsistenz entlang von Pfade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enügt, Pfade der Länge 2 zu unter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- und Nach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findet mehr Inkonsistenzen als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extensionale Repräsentation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verändert die Konnektivität des Gra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chtete PC, eingeschränkte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289240" y="2430360"/>
            <a:ext cx="1395360" cy="54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3699000" y="2332080"/>
            <a:ext cx="80460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4486320" y="2332080"/>
            <a:ext cx="97164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 flipV="1">
            <a:off x="5473800" y="1987560"/>
            <a:ext cx="69696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6140520" y="1987560"/>
            <a:ext cx="1212840" cy="326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1954080" y="24289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400560" y="2433600"/>
            <a:ext cx="51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133960" y="2092320"/>
            <a:ext cx="51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4272120" y="188424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6019920" y="203832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7358040" y="210816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6"/>
          <p:cNvSpPr/>
          <p:nvPr/>
        </p:nvSpPr>
        <p:spPr>
          <a:xfrm flipV="1">
            <a:off x="3668760" y="2642760"/>
            <a:ext cx="1789200" cy="344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4503600" y="284004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-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te Belegung von (k-1) Variablen kann auf die k-te Variable erweit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ke k-Konsistenz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j-Konsistenz für jedes j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1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2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3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llständige 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n-Konsistenz eines Constraint Graphen mit n Kno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k-Konsistenz eines Constraint Graphen mit n Knoten (k&lt;n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???</a:t>
            </a:r>
            <a:br>
              <a:rPr sz="2400"/>
            </a:b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keine Lös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Grap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umartiger Graph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)AC ist ausreic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iminiere Knoten (cycle cut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se Knoten zusa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775480" y="3087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778360" y="4176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7542360" y="4164120"/>
            <a:ext cx="48564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7532640" y="31003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6245280" y="3562200"/>
            <a:ext cx="12891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6245280" y="3561840"/>
            <a:ext cx="127296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5987880" y="3562200"/>
            <a:ext cx="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6276960" y="331632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7777080" y="3579840"/>
            <a:ext cx="0" cy="57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6276600" y="441648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610240" y="36115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6448320" y="38466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6724800" y="291780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669000" y="428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781200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7232760" y="365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8034480" y="448164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4932360" y="333864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4932360" y="445788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8032680" y="33782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nstraintpropag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ystematische Su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 ineffiz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icherstellung der Konsisten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vollstä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: Kombination von Suche (Backtracking) mit Konsistenz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back (Wiederherstellen nach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ahead (Verhindern von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20480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302436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4003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981680" y="5632560"/>
            <a:ext cx="303120" cy="277560"/>
          </a:xfrm>
          <a:prstGeom prst="ellipse">
            <a:avLst/>
          </a:prstGeom>
          <a:solidFill>
            <a:srgbClr val="ff66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9612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694044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918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1"/>
          <p:cNvSpPr/>
          <p:nvPr/>
        </p:nvSpPr>
        <p:spPr>
          <a:xfrm rot="5400000">
            <a:off x="4046400" y="5067360"/>
            <a:ext cx="222120" cy="1987560"/>
          </a:xfrm>
          <a:custGeom>
            <a:avLst/>
            <a:gdLst>
              <a:gd name="textAreaLeft" fmla="*/ 0 w 222120"/>
              <a:gd name="textAreaRight" fmla="*/ 155880 w 222120"/>
              <a:gd name="textAreaTop" fmla="*/ 82800 h 1987560"/>
              <a:gd name="textAreaBottom" fmla="*/ 1904760 h 19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 rot="5400000">
            <a:off x="6021360" y="5085360"/>
            <a:ext cx="222480" cy="1925640"/>
          </a:xfrm>
          <a:custGeom>
            <a:avLst/>
            <a:gdLst>
              <a:gd name="textAreaLeft" fmla="*/ 0 w 222480"/>
              <a:gd name="textAreaRight" fmla="*/ 156240 w 222480"/>
              <a:gd name="textAreaTop" fmla="*/ 79920 h 1925640"/>
              <a:gd name="textAreaBottom" fmla="*/ 18457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3"/>
          <p:cNvSpPr/>
          <p:nvPr/>
        </p:nvSpPr>
        <p:spPr>
          <a:xfrm rot="5400000">
            <a:off x="7507800" y="556164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4"/>
          <p:cNvSpPr/>
          <p:nvPr/>
        </p:nvSpPr>
        <p:spPr>
          <a:xfrm flipV="1" rot="16200000">
            <a:off x="5520240" y="504684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5"/>
          <p:cNvSpPr/>
          <p:nvPr/>
        </p:nvSpPr>
        <p:spPr>
          <a:xfrm flipV="1" rot="16200000">
            <a:off x="6494760" y="503388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6"/>
          <p:cNvSpPr/>
          <p:nvPr/>
        </p:nvSpPr>
        <p:spPr>
          <a:xfrm flipV="1" rot="16200000">
            <a:off x="3061800" y="4543200"/>
            <a:ext cx="171360" cy="1955880"/>
          </a:xfrm>
          <a:custGeom>
            <a:avLst/>
            <a:gdLst>
              <a:gd name="textAreaLeft" fmla="*/ 0 w 171360"/>
              <a:gd name="textAreaRight" fmla="*/ 120240 w 171360"/>
              <a:gd name="textAreaTop" fmla="*/ 81360 h 1955880"/>
              <a:gd name="textAreaBottom" fmla="*/ 1874520 h 19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7"/>
          <p:cNvSpPr/>
          <p:nvPr/>
        </p:nvSpPr>
        <p:spPr>
          <a:xfrm rot="5400000">
            <a:off x="2554920" y="556632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6321600" y="6321600"/>
            <a:ext cx="221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3492360" y="47973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3895560" y="5106960"/>
            <a:ext cx="24242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6300720" y="630864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5580000" y="4797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5140440" y="4861080"/>
            <a:ext cx="0" cy="1641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7788240" y="4662360"/>
            <a:ext cx="863640" cy="1608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7210440" y="5697360"/>
            <a:ext cx="4557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6939000" y="4316400"/>
            <a:ext cx="1000080" cy="1906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Look Back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s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prüfung der instanziierten Variabl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ju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tracking zu der Variable mit dem Konflik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check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ac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et redundante Überprüfungen von                          Constraints durch das Speichern von                                            erfolgreichen und fehlgeschlagenen                         Wertzu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8"/>
          <p:cNvSpPr/>
          <p:nvPr/>
        </p:nvSpPr>
        <p:spPr>
          <a:xfrm>
            <a:off x="8315280" y="412272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9"/>
          <p:cNvSpPr/>
          <p:nvPr/>
        </p:nvSpPr>
        <p:spPr>
          <a:xfrm>
            <a:off x="8315280" y="365904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8315280" y="31971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8209080" y="3317760"/>
            <a:ext cx="68040" cy="885960"/>
          </a:xfrm>
          <a:custGeom>
            <a:avLst/>
            <a:gdLst>
              <a:gd name="textAreaLeft" fmla="*/ 19800 w 68040"/>
              <a:gd name="textAreaRight" fmla="*/ 68400 w 68040"/>
              <a:gd name="textAreaTop" fmla="*/ 36720 h 885960"/>
              <a:gd name="textAreaBottom" fmla="*/ 849240 h 8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2"/>
          <p:cNvSpPr/>
          <p:nvPr/>
        </p:nvSpPr>
        <p:spPr>
          <a:xfrm flipV="1">
            <a:off x="8397720" y="3398760"/>
            <a:ext cx="0" cy="24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7520040" y="2790720"/>
            <a:ext cx="698400" cy="46044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6659640" y="247968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ring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er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7572240" y="61768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7400880" y="51022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7104240" y="563724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6808680" y="617688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7194600" y="479592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564240" y="593244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7597800" y="586908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2"/>
          <p:cNvSpPr/>
          <p:nvPr/>
        </p:nvSpPr>
        <p:spPr>
          <a:xfrm>
            <a:off x="7696080" y="45687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7988400" y="5102280"/>
            <a:ext cx="1807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24"/>
          <p:cNvSpPr/>
          <p:nvPr/>
        </p:nvSpPr>
        <p:spPr>
          <a:xfrm>
            <a:off x="8547120" y="617688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8650440" y="5907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6"/>
          <p:cNvSpPr/>
          <p:nvPr/>
        </p:nvSpPr>
        <p:spPr>
          <a:xfrm rot="1761000">
            <a:off x="6714720" y="4687560"/>
            <a:ext cx="247680" cy="1554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40320 h 1554120"/>
              <a:gd name="textAreaBottom" fmla="*/ 151380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5857920" y="5340240"/>
            <a:ext cx="10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6877080" y="6381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ch 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29"/>
          <p:cNvSpPr/>
          <p:nvPr/>
        </p:nvSpPr>
        <p:spPr>
          <a:xfrm>
            <a:off x="6986520" y="603252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7062840" y="58928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7473960" y="603900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7350120" y="5886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7308720" y="54230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7550280" y="4959360"/>
            <a:ext cx="680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7613640" y="481968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8458200" y="59500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8375760" y="5778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8264520" y="556884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8177040" y="53974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7942320" y="4971960"/>
            <a:ext cx="680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7854840" y="48196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2"/>
          <p:cNvSpPr/>
          <p:nvPr/>
        </p:nvSpPr>
        <p:spPr>
          <a:xfrm>
            <a:off x="7027920" y="608976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3"/>
          <p:cNvSpPr/>
          <p:nvPr/>
        </p:nvSpPr>
        <p:spPr>
          <a:xfrm>
            <a:off x="7110360" y="593712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4"/>
          <p:cNvSpPr/>
          <p:nvPr/>
        </p:nvSpPr>
        <p:spPr>
          <a:xfrm>
            <a:off x="7367760" y="54738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7602480" y="50101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7678800" y="48830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7"/>
          <p:cNvSpPr/>
          <p:nvPr/>
        </p:nvSpPr>
        <p:spPr>
          <a:xfrm flipH="1">
            <a:off x="7806960" y="48895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8"/>
          <p:cNvSpPr/>
          <p:nvPr/>
        </p:nvSpPr>
        <p:spPr>
          <a:xfrm flipH="1">
            <a:off x="7895880" y="5035680"/>
            <a:ext cx="5724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8129160" y="54608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0"/>
          <p:cNvSpPr/>
          <p:nvPr/>
        </p:nvSpPr>
        <p:spPr>
          <a:xfrm flipH="1">
            <a:off x="8201160" y="5632560"/>
            <a:ext cx="568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1"/>
          <p:cNvSpPr/>
          <p:nvPr/>
        </p:nvSpPr>
        <p:spPr>
          <a:xfrm flipH="1">
            <a:off x="8322840" y="582948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52"/>
          <p:cNvSpPr/>
          <p:nvPr/>
        </p:nvSpPr>
        <p:spPr>
          <a:xfrm flipH="1">
            <a:off x="8410320" y="600696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53"/>
          <p:cNvSpPr/>
          <p:nvPr/>
        </p:nvSpPr>
        <p:spPr>
          <a:xfrm flipH="1">
            <a:off x="7303680" y="59436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54"/>
          <p:cNvSpPr/>
          <p:nvPr/>
        </p:nvSpPr>
        <p:spPr>
          <a:xfrm flipH="1">
            <a:off x="7414920" y="610884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eide zukünftige Konflikte durch Konsistenz- überprüfung mit noch nicht instanziierten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 checking (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 to mit dem direkten Nachb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r (partial) look ahead (P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ollständiger) look ahead (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ten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7394400" y="303840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7394400" y="37368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7299360" y="313704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7392960" y="44370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7392960" y="51372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7392960" y="5837400"/>
            <a:ext cx="181080" cy="1965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7304040" y="387972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2"/>
          <p:cNvSpPr/>
          <p:nvPr/>
        </p:nvSpPr>
        <p:spPr>
          <a:xfrm flipH="1">
            <a:off x="7580160" y="312912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13"/>
          <p:cNvSpPr/>
          <p:nvPr/>
        </p:nvSpPr>
        <p:spPr>
          <a:xfrm flipH="1">
            <a:off x="7615080" y="454356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7291440" y="5265720"/>
            <a:ext cx="69840" cy="704880"/>
          </a:xfrm>
          <a:custGeom>
            <a:avLst/>
            <a:gdLst>
              <a:gd name="textAreaLeft" fmla="*/ 20520 w 69840"/>
              <a:gd name="textAreaRight" fmla="*/ 69840 w 6984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5487840" y="2890800"/>
            <a:ext cx="1729080" cy="55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5502240" y="2955960"/>
            <a:ext cx="2168640" cy="12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7"/>
          <p:cNvSpPr/>
          <p:nvPr/>
        </p:nvSpPr>
        <p:spPr>
          <a:xfrm>
            <a:off x="8353440" y="3186000"/>
            <a:ext cx="0" cy="203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8"/>
          <p:cNvSpPr/>
          <p:nvPr/>
        </p:nvSpPr>
        <p:spPr>
          <a:xfrm rot="5400000">
            <a:off x="7233840" y="4390920"/>
            <a:ext cx="26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19"/>
          <p:cNvSpPr/>
          <p:nvPr/>
        </p:nvSpPr>
        <p:spPr>
          <a:xfrm flipH="1">
            <a:off x="7594560" y="2478240"/>
            <a:ext cx="728640" cy="47592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6899400" y="215100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ziiert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-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- 7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Backtracking - 5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Propagierung - 2 Sch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619280" y="2997360"/>
          <a:ext cx="519912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51991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wendungsfelder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371600"/>
            <a:ext cx="81788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e Arten von schwierigen kombina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rischen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lekularb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quenzierung vo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ein-Struktur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aktive Graf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modale Ausgabe, z.B. im DynAMITE-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work-Management und -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Bild 5" descr="1GZX_Haemoglobin.png"/>
          <p:cNvPicPr/>
          <p:nvPr/>
        </p:nvPicPr>
        <p:blipFill>
          <a:blip r:embed="rId1"/>
          <a:stretch/>
        </p:blipFill>
        <p:spPr>
          <a:xfrm>
            <a:off x="480060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Bild 6" descr="Peridinin-chlorophyll-solenoid-1ppr.png"/>
          <p:cNvPicPr/>
          <p:nvPr/>
        </p:nvPicPr>
        <p:blipFill>
          <a:blip r:embed="rId2"/>
          <a:stretch/>
        </p:blipFill>
        <p:spPr>
          <a:xfrm>
            <a:off x="5486400" y="1085760"/>
            <a:ext cx="3429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Job Shop Schedu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79280" y="1125360"/>
            <a:ext cx="8785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gabe bei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weisung von Aktivitäten an Ressourcen zu ein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P erlaubt die Modellierung auf „natürliche“ W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benbedingungen werden abgedeck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vitäten werden mittels Variablen beschri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ang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n (wenn nöt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er (falls vari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s beschreiben Bezie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einzelnen Aktivitäten (Vorrang, Reihenfolge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Aktivitäten und Ressourcen (Kapazitä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stechniken: standard Constraint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mporale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13716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-Constraints (due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tigstellung vor einem festgelegtem Zeitpu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 + dauer(A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 ende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orrang-Constraints (preced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A muß einer andere Aktivität B vora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aus technologischen Grü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+ dauer(A) ≤ start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Zeitfenster (time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muß während eines Zeitfensters statt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in MinStart...Ma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inricht-Zeiten (set-up times)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t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aint programming represents one of the closest approaches computer science has yet made to the Holy Grail of programming: the user states the problem, the computer solves i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gene C. Freuder, Constraints, April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ild 5" descr=""/>
          <p:cNvPicPr/>
          <p:nvPr/>
        </p:nvPicPr>
        <p:blipFill>
          <a:blip r:embed="rId1"/>
          <a:stretch/>
        </p:blipFill>
        <p:spPr>
          <a:xfrm>
            <a:off x="0" y="369576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ssourcen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9280" y="1371240"/>
            <a:ext cx="896472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v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 ist auf eine gleichzeitige Aktivität b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+dauer(A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start(B) oder start(B)+dauer(B)≤start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erialized([start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apazitäts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Ressource kann Aktivitäten mit einem gegebenen Limit parallel be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ckt auch Disjunktive Constraints ab (Kapazität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([start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verbrauch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rick: Ist die Ressource an der Aktivität nicht beteiligt, dann ist ihr Verbrauch gleich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verschwieg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iken der lokalen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-systematisches Generieren und T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l-climbing, min-conflicts, random-walk, tabu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e mit zu vielen Constraints (over-constr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ist zu tun, wenn die Constraintmenge unerfüllbar 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chwächen des Problems (weakening, PC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n von Präferenzen (Hierarchien von Constrai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e nach optimalen Lösungen, gemäß ein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anch und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lz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der numerischen Mathematik (Newton, Tay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gesag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Programmie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mt dem Heiligen Gral der Informatik na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relevant bei der Lösung interessanter 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und systematische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chöpfende Suche ist zu aufwen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techniken (look a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hindere Konflikte in der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ken zur Vermeidung von Redundanzen (look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et Informationen über vorangegangene 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Quellen und Literatu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371240"/>
            <a:ext cx="84582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On-Line Guide to Constraint Programming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1"/>
              </a:rPr>
              <a:t>http://kti.mff.cuni.cz/~bartak/constr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nglis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ssell und Norvig: Artificial Intelligence: A Modern Approach, Prentice Hall, 1995, 2te Auflage, Kapitel 5 (onli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Vortrag CPDC99. (engli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-Queens v1.0, ©1996 CyLog Software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2"/>
              </a:rPr>
              <a:t>http://www.cylog.org/games_6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sind Constraint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onstrai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) = Beschränkung, Einschrän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hier: Aussage darüber, welche Lösungen eines Problems (ausgedrückt durch Belegung von Variablen) verboten/erlaubt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Also: constraints schränken die zulässigen Lösungen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erschiedene Beschreibungsar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xtensional (durch Aufzählung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X,Y,Z) ∈ {(1,0,0),(0,1,0),(0,0,1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tensional (durch Formeln, die erfüllt sein müssen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X+Y+Z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317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onstraint Satisfaction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1267920"/>
            <a:ext cx="8178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P = Ein Programm erstellt ein CSP zu einem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besteht a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endlichen Menge von Variablen X={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mänen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...,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dieser Variablen                                          (endliche Mengen möglicher We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Menge v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 eines CS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weisung eines Wertes an jede Variable aus ihrer Domäne 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=2, Y=2, Z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ist C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1052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ethode, um kombinatorische Probleme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SEND+MORE=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enge von Variablen {S,E,N,D,M,O,R,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omänen (Wertebereiche) fü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,N,D,O,R,Y::0..9,    S,M::1.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 (Einschränkungsbeding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ränken den Wertebereich von Variablen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124000" y="4653000"/>
          <a:ext cx="5040360" cy="1114560"/>
        </p:xfrm>
        <a:graphic>
          <a:graphicData uri="http://schemas.openxmlformats.org/drawingml/2006/table">
            <a:tbl>
              <a:tblPr/>
              <a:tblGrid>
                <a:gridCol w="1270080"/>
                <a:gridCol w="1106640"/>
                <a:gridCol w="1008000"/>
                <a:gridCol w="863640"/>
                <a:gridCol w="7920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103"/>
          <p:cNvSpPr/>
          <p:nvPr/>
        </p:nvSpPr>
        <p:spPr>
          <a:xfrm>
            <a:off x="539640" y="5805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gabe: Finde einen Wert für jede Variable, so dass alle Constraints erfüllt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2707920"/>
            <a:ext cx="4012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71640" y="4005360"/>
          <a:ext cx="4680000" cy="1692000"/>
        </p:xfrm>
        <a:graphic>
          <a:graphicData uri="http://schemas.openxmlformats.org/drawingml/2006/table">
            <a:tbl>
              <a:tblPr/>
              <a:tblGrid>
                <a:gridCol w="1179360"/>
                <a:gridCol w="1027080"/>
                <a:gridCol w="936720"/>
                <a:gridCol w="801720"/>
                <a:gridCol w="7351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4360" y="2708280"/>
            <a:ext cx="82404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#\= 0, M #\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different([S,E,N,D,M,O,R,Y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0*S+100*E+10*N+D + 1000*M+100*O+10*R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#= 10000*M+1000*O+100*N+10*E+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beling([S,E,N,D,M,O,R,Y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44040" y="5516640"/>
            <a:ext cx="77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ystem sucht und findet automatisch eine 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z ist ein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732720" y="4797360"/>
            <a:ext cx="172872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e 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1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2"/>
          <p:cNvSpPr/>
          <p:nvPr/>
        </p:nvSpPr>
        <p:spPr>
          <a:xfrm flipH="1" flipV="1">
            <a:off x="4211280" y="5084280"/>
            <a:ext cx="2521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4571640" y="400536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Bild 4" descr="sudoku.jpg"/>
          <p:cNvPicPr/>
          <p:nvPr/>
        </p:nvPicPr>
        <p:blipFill>
          <a:blip r:embed="rId1"/>
          <a:stretch/>
        </p:blipFill>
        <p:spPr>
          <a:xfrm>
            <a:off x="2286000" y="1981080"/>
            <a:ext cx="3429000" cy="339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9:29:24Z</dcterms:created>
  <dc:creator>ulla</dc:creator>
  <dc:description/>
  <dc:language>en-US</dc:language>
  <cp:lastModifiedBy>Sebastian Rudolph</cp:lastModifiedBy>
  <cp:lastPrinted>2000-10-25T10:09:24Z</cp:lastPrinted>
  <dcterms:modified xsi:type="dcterms:W3CDTF">2008-05-20T16:14:06Z</dcterms:modified>
  <cp:revision>275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